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12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E04409-ED20-4991-A4E3-AE31AED7A0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he importance of documentation in getting through an audi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 your files – constant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ability to get through an audit as quickly and painlessly as possible depends on being able to provide the backup document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your successo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 the rules about how long to keep something.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mportant to emphasize the second point. This is often a big reason why people get CIPA findings in their audits. Generally, schools did their Public Hearings many years ago, but the proof has gotten lost.  During the audit, they are then unable to prove their compliance, it becomes a finding and we have to rescind funding.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fix years past but you can fix the problem going forward by having a new hearing, creating and then saving the documentati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93A55A-E108-4FAF-8417-F98F9B6EE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2A377B-51C2-4CB5-B189-44FDFD42D1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518AFC-8C3F-4D0E-A325-6CB893159D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138646-290A-4E2C-A924-DFDB4B5E49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0DC922-06F0-4784-921A-D45C66541B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DCA700-C647-496E-B6B6-53113BBA27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EEC266-25BB-4D8E-ACA1-D68580CFF1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33D2E8-F037-41EB-8502-60A8D01CA0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76C249C-202E-43A3-83F6-21797BCE7B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965AD999-0EBA-46BF-B83B-DD1FE23D78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A44EB26-3342-4B17-ACCF-AFA28E59CA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D228C3B-CBBD-4A23-8282-153DC8F8E5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B89E3-B08A-4094-A573-905F2BEEDF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3282B97-6A1C-402E-8339-1F7D498EFF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78C79E4-ED21-4278-82D4-77425DBA88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223D1A0-5F53-45EA-B20B-E442BDB678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F2BC3EE-1584-46EF-8674-819BCB2B26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528A188-FE22-485E-A4E3-45288E5D80E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6805751-047F-4361-BF1A-68F1EEE1976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7222D55-089C-4EC2-B902-C7679D1FDF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3355A28-641C-4B18-9B07-7BC3F547D1E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5E9B3B6-6ED4-443A-9ED4-190EF3EFC3C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29EFB395-1D8F-4594-9374-8578A7AFE1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D882E-9DBD-4A64-8D9B-CE805B2691F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BDAAB30-2203-4ACA-9A59-94B108B5B6E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8D6E2CB-3DB8-4883-9DD6-730C573B434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379A86B-5E00-4DE2-8058-7C055D70DE4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720A3F6-5790-4DFC-93E2-92D5C8B9F30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2955924-69D3-49FE-AE76-D601EA64797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0C77912E-414D-4065-ABAA-C9260917A38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D63D96FC-561E-4CA7-9D9B-9144B31691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FDFCDC-F0D0-41B0-84F6-FF934EE747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B4F7A188-2244-4CE9-9D42-A5312359DA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B93CFE4-B2E5-41AF-840D-1A8A507FCA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D4D82E-070E-4CBD-982F-393C308DEF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261C03-A950-4AEB-94A5-31BD1B5F50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823C35-8832-4008-9430-2D708B076D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9"/>
          <p:cNvSpPr/>
          <p:nvPr/>
        </p:nvSpPr>
        <p:spPr>
          <a:xfrm>
            <a:off x="7610760" y="6458040"/>
            <a:ext cx="1454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a56b2"/>
                </a:solidFill>
                <a:latin typeface="Arial"/>
              </a:rPr>
              <a:t>www.usac.org</a:t>
            </a:r>
            <a:endParaRPr b="0" lang="en-US" sz="1600" spc="-1" strike="noStrike">
              <a:solidFill>
                <a:srgbClr val="000000"/>
              </a:solidFill>
              <a:latin typeface="Arial"/>
            </a:endParaRPr>
          </a:p>
        </p:txBody>
      </p:sp>
      <p:pic>
        <p:nvPicPr>
          <p:cNvPr id="3" name="Picture 10" descr=""/>
          <p:cNvPicPr/>
          <p:nvPr/>
        </p:nvPicPr>
        <p:blipFill>
          <a:blip r:embed="rId2"/>
          <a:stretch/>
        </p:blipFill>
        <p:spPr>
          <a:xfrm>
            <a:off x="0" y="-76320"/>
            <a:ext cx="2286000" cy="2973600"/>
          </a:xfrm>
          <a:prstGeom prst="rect">
            <a:avLst/>
          </a:prstGeom>
          <a:ln w="0">
            <a:noFill/>
          </a:ln>
        </p:spPr>
      </p:pic>
      <p:sp>
        <p:nvSpPr>
          <p:cNvPr id="4" name="PlaceHolder 3"/>
          <p:cNvSpPr>
            <a:spLocks noGrp="1"/>
          </p:cNvSpPr>
          <p:nvPr>
            <p:ph type="sldNum" idx="1"/>
          </p:nvPr>
        </p:nvSpPr>
        <p:spPr>
          <a:xfrm>
            <a:off x="4038480" y="6244920"/>
            <a:ext cx="10670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84CE-924C-41C4-A6C7-4BE9E9A4D2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7924320" y="6507000"/>
            <a:ext cx="11394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56b2"/>
                </a:solidFill>
                <a:latin typeface="Arial"/>
              </a:rPr>
              <a:t>www.usac.org</a:t>
            </a:r>
            <a:endParaRPr b="0" lang="en-US" sz="1200" spc="-1" strike="noStrike">
              <a:solidFill>
                <a:srgbClr val="000000"/>
              </a:solidFill>
              <a:latin typeface="Arial"/>
            </a:endParaRPr>
          </a:p>
        </p:txBody>
      </p:sp>
      <p:pic>
        <p:nvPicPr>
          <p:cNvPr id="42" name="Picture 7" descr=""/>
          <p:cNvPicPr/>
          <p:nvPr/>
        </p:nvPicPr>
        <p:blipFill>
          <a:blip r:embed="rId2"/>
          <a:stretch/>
        </p:blipFill>
        <p:spPr>
          <a:xfrm>
            <a:off x="0" y="-76320"/>
            <a:ext cx="2286000" cy="29736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sldNum" idx="2"/>
          </p:nvPr>
        </p:nvSpPr>
        <p:spPr>
          <a:xfrm>
            <a:off x="4190760" y="6244920"/>
            <a:ext cx="106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A8574-26AF-44DC-BFD4-633EC8947A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9"/>
          <p:cNvSpPr/>
          <p:nvPr/>
        </p:nvSpPr>
        <p:spPr>
          <a:xfrm>
            <a:off x="7610760" y="6458040"/>
            <a:ext cx="1454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a56b2"/>
                </a:solidFill>
                <a:latin typeface="Arial"/>
              </a:rPr>
              <a:t>www.usac.org</a:t>
            </a:r>
            <a:endParaRPr b="0" lang="en-US" sz="1600" spc="-1" strike="noStrike">
              <a:solidFill>
                <a:srgbClr val="000000"/>
              </a:solidFill>
              <a:latin typeface="Arial"/>
            </a:endParaRPr>
          </a:p>
        </p:txBody>
      </p:sp>
      <p:pic>
        <p:nvPicPr>
          <p:cNvPr id="83" name="Picture 10" descr=""/>
          <p:cNvPicPr/>
          <p:nvPr/>
        </p:nvPicPr>
        <p:blipFill>
          <a:blip r:embed="rId2"/>
          <a:stretch/>
        </p:blipFill>
        <p:spPr>
          <a:xfrm>
            <a:off x="0" y="-76320"/>
            <a:ext cx="2286000" cy="29736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sldNum" idx="3"/>
          </p:nvPr>
        </p:nvSpPr>
        <p:spPr>
          <a:xfrm>
            <a:off x="4038480" y="6476760"/>
            <a:ext cx="10670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A0E95-76AB-4736-848A-8913F1DF27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9"/>
          <p:cNvSpPr/>
          <p:nvPr/>
        </p:nvSpPr>
        <p:spPr>
          <a:xfrm>
            <a:off x="1371600" y="1676520"/>
            <a:ext cx="5715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gram Compliance</a:t>
            </a:r>
            <a:endParaRPr b="0" lang="en-US" sz="4000" spc="-1" strike="noStrike">
              <a:solidFill>
                <a:srgbClr val="000000"/>
              </a:solidFill>
              <a:latin typeface="Arial"/>
            </a:endParaRPr>
          </a:p>
        </p:txBody>
      </p:sp>
      <p:sp>
        <p:nvSpPr>
          <p:cNvPr id="132" name="Text Box 12"/>
          <p:cNvSpPr/>
          <p:nvPr/>
        </p:nvSpPr>
        <p:spPr>
          <a:xfrm>
            <a:off x="228600" y="5791320"/>
            <a:ext cx="85345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shington, DC • Newark • Atlanta • Chicago • Orlando • Los Angeles • Portland • Houston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tember/October 2009</a:t>
            </a:r>
            <a:endParaRPr b="0" lang="en-US" sz="1600" spc="-1" strike="noStrike">
              <a:solidFill>
                <a:srgbClr val="000000"/>
              </a:solidFill>
              <a:latin typeface="Arial"/>
            </a:endParaRPr>
          </a:p>
        </p:txBody>
      </p:sp>
      <p:sp>
        <p:nvSpPr>
          <p:cNvPr id="133" name="Rectangle 1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ing You Succeed</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and Libraries Div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361E4-D1B8-4BD9-9B1F-E3F2D7A930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 470 and RFP Issues</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nts must ensure that they post for the correct category of servi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A can switch the category of services if applicants make a mistake on their Form 471</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icient detail in Form 470</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nts cannot just provide generic descriptions or laundry lists of products and services</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nts must indicate multi-year contracts or voluntary contract extensions if desired; failure to do so may result in funding deni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82D47-3EE3-4BE9-914A-CC97C6CA50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endor Involvement</a:t>
            </a:r>
            <a:endParaRPr b="0" lang="en-US" sz="40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providers </a:t>
            </a:r>
            <a:r>
              <a:rPr b="1" lang="en-US" sz="2800" spc="-1" strike="noStrike">
                <a:solidFill>
                  <a:srgbClr val="ff0000"/>
                </a:solidFill>
                <a:latin typeface="Arial"/>
              </a:rPr>
              <a:t>cannot</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types of service the applicant will seek on a Form 47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 applicants with the filling out of the FCC Form 470 which requires an applicant’s certif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otiate with prospective bidd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competitive bidding process for the applic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privy to information about the bid not shared with other potential bid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516B-6013-496D-A5BA-6996F72131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sing Restrictions</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nts can set some requirements for bidd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applicants may require service providers to provide services that are compatible with one kind of system over another (e.g. Apple vs. Window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qualifying Bidders</a:t>
            </a:r>
            <a:endParaRPr b="0" lang="en-US" sz="4000" spc="-1" strike="noStrike">
              <a:solidFill>
                <a:srgbClr val="000000"/>
              </a:solidFill>
              <a:latin typeface="Arial"/>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fications/disqualification factors must be spelled out to all interested parti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le to all in Form 470 and/or RFP</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qualification factors are binary (eg yes/no) and cannot be scored on a ran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wise, this is multi-round evaluation and price must be primary in </a:t>
            </a:r>
            <a:r>
              <a:rPr b="1" lang="en-US" sz="2800" spc="-1" strike="noStrike">
                <a:solidFill>
                  <a:srgbClr val="000000"/>
                </a:solidFill>
                <a:latin typeface="Arial"/>
              </a:rPr>
              <a:t>every </a:t>
            </a:r>
            <a:r>
              <a:rPr b="0" lang="en-US" sz="2800" spc="-1" strike="noStrike">
                <a:solidFill>
                  <a:srgbClr val="000000"/>
                </a:solidFill>
                <a:latin typeface="Arial"/>
              </a:rPr>
              <a:t>round</a:t>
            </a:r>
            <a:endParaRPr b="0" lang="en-US" sz="28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in documentation of notice and review</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11AA1-418F-4689-942A-68A380B22C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A1E02-FB66-4A59-927B-CB491E3A27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endor Selection</a:t>
            </a:r>
            <a:endParaRPr b="0" lang="en-US" sz="40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nts must retain all vendor selection documenta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winning and losing bids</a:t>
            </a:r>
            <a:endParaRPr b="0" lang="en-US" sz="28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of the eligible goods and services must be the primary factor in all round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nts determine remaining vendor selection criteria and relative weight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C sample evaluation matrix availabl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6EE65-1C10-449F-B75E-122EEC0D1A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st Cost Effective</a:t>
            </a:r>
            <a:endParaRPr b="0" lang="en-US" sz="4000" spc="-1" strike="noStrike">
              <a:solidFill>
                <a:srgbClr val="000000"/>
              </a:solidFill>
              <a:latin typeface="Arial"/>
            </a:endParaRPr>
          </a:p>
        </p:txBody>
      </p:sp>
      <p:sp>
        <p:nvSpPr>
          <p:cNvPr id="175" name="PlaceHolder 2"/>
          <p:cNvSpPr>
            <a:spLocks noGrp="1"/>
          </p:cNvSpPr>
          <p:nvPr>
            <p:ph/>
          </p:nvPr>
        </p:nvSpPr>
        <p:spPr>
          <a:xfrm>
            <a:off x="457200" y="1357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ng the winning bid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of the </a:t>
            </a:r>
            <a:r>
              <a:rPr b="0" lang="en-US" sz="2800" spc="-1" strike="noStrike">
                <a:solidFill>
                  <a:srgbClr val="ff0000"/>
                </a:solidFill>
                <a:latin typeface="Arial"/>
              </a:rPr>
              <a:t>ELIGIBLE</a:t>
            </a:r>
            <a:r>
              <a:rPr b="0" lang="en-US" sz="2800" spc="-1" strike="noStrike">
                <a:solidFill>
                  <a:srgbClr val="000000"/>
                </a:solidFill>
                <a:latin typeface="Arial"/>
              </a:rPr>
              <a:t> goods and services must be the primary fact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factors, including other price factors, can be considered as well but they cannot be weighted equally or higher than cost of the eligible goods and serv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Step 4: Construct An Evaluation</a:t>
            </a:r>
            <a:r>
              <a:rPr b="1" lang="en-US" sz="2800" spc="-1" strike="noStrike">
                <a:solidFill>
                  <a:srgbClr val="000000"/>
                </a:solidFill>
                <a:latin typeface="Arial"/>
              </a:rPr>
              <a:t> </a:t>
            </a:r>
            <a:r>
              <a:rPr b="0" lang="en-US" sz="2800" spc="-1" strike="noStrike">
                <a:solidFill>
                  <a:srgbClr val="000000"/>
                </a:solidFill>
                <a:latin typeface="Arial"/>
              </a:rPr>
              <a:t>for weighting samp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AB49A-40B9-43A2-94C5-0A55796794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Effectiveness</a:t>
            </a:r>
            <a:endParaRPr b="0" lang="en-US" sz="4000" spc="-1" strike="noStrike">
              <a:solidFill>
                <a:srgbClr val="000000"/>
              </a:solidFill>
              <a:latin typeface="Arial"/>
            </a:endParaRPr>
          </a:p>
        </p:txBody>
      </p:sp>
      <p:sp>
        <p:nvSpPr>
          <p:cNvPr id="178" name="PlaceHolder 2"/>
          <p:cNvSpPr>
            <a:spLocks noGrp="1"/>
          </p:cNvSpPr>
          <p:nvPr>
            <p:ph/>
          </p:nvPr>
        </p:nvSpPr>
        <p:spPr>
          <a:xfrm>
            <a:off x="457200" y="1447920"/>
            <a:ext cx="8229600" cy="4525920"/>
          </a:xfrm>
          <a:prstGeom prst="rect">
            <a:avLst/>
          </a:prstGeom>
          <a:noFill/>
          <a:ln w="0">
            <a:noFill/>
          </a:ln>
        </p:spPr>
        <p:txBody>
          <a:bodyPr anchor="t">
            <a:normAutofit fontScale="97000"/>
          </a:bodyPr>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must be cost-effective (not just </a:t>
            </a:r>
            <a:r>
              <a:rPr b="0" i="1" lang="en-US" sz="2800" spc="-1" strike="noStrike">
                <a:solidFill>
                  <a:srgbClr val="000000"/>
                </a:solidFill>
                <a:latin typeface="Arial"/>
              </a:rPr>
              <a:t>the most</a:t>
            </a:r>
            <a:r>
              <a:rPr b="0" lang="en-US" sz="2800" spc="-1" strike="noStrike">
                <a:solidFill>
                  <a:srgbClr val="000000"/>
                </a:solidFill>
                <a:latin typeface="Arial"/>
              </a:rPr>
              <a:t> cost-effective)</a:t>
            </a:r>
            <a:endParaRPr b="0" lang="en-US" sz="28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sleta</a:t>
            </a:r>
            <a:r>
              <a:rPr b="0" lang="en-US" sz="2000" spc="-1" strike="noStrike">
                <a:solidFill>
                  <a:srgbClr val="000000"/>
                </a:solidFill>
                <a:latin typeface="Arial"/>
              </a:rPr>
              <a:t> Order, para. 54: Routers priced at two or three times greater than the prices available from commercial vendors would not be cost-effective, absent extenuating circumstances. </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ing only one bid does not automatically make it cost-effective</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nts must be able to explain why a solution with higher than average pricing is cost-effective. </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s specific an answer with as much objective information as possible.</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viders may work with the applicant to help them understand the technical needs for this expensive solution. </a:t>
            </a:r>
            <a:endParaRPr b="0" lang="en-US" sz="2000" spc="-1" strike="noStrike">
              <a:solidFill>
                <a:srgbClr val="000000"/>
              </a:solidFill>
              <a:latin typeface="Arial"/>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72678-10CB-46B4-AC9C-9DA7E9E4DE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 Services</a:t>
            </a:r>
            <a:endParaRPr b="0" lang="en-US" sz="40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nts and service providers are prohibited from using Schools and Libraries support to subsidize the procurement of ineligible or unrequested products and services or from participating in arrangements that have the effect of providing a discount level to applicants greater than that to which applicants are entitle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use E-rate to get free stuff (ineligible or eligible). You must back out the value of that stuff in your vendor selection process. </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80"/>
                                        </p:tgtEl>
                                        <p:attrNameLst>
                                          <p:attrName>style.visibility</p:attrName>
                                        </p:attrNameLst>
                                      </p:cBhvr>
                                      <p:to>
                                        <p:strVal val="visible"/>
                                      </p:to>
                                    </p:set>
                                    <p:animEffect filter="fade" transition="in">
                                      <p:cBhvr additive="repl">
                                        <p:cTn id="7" dur="2000"/>
                                        <p:tgtEl>
                                          <p:spTgt spid="18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2" dur="2000"/>
                                        <p:tgtEl>
                                          <p:spTgt spid="18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7" dur="2000"/>
                                        <p:tgtEl>
                                          <p:spTgt spid="1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2EC22-D61B-4EA2-A9E2-397F1A3565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 Services</a:t>
            </a:r>
            <a:endParaRPr b="0" lang="en-US" sz="40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deduct the value of the “free stuff”, discounts, trade-in etc, from the pre-discount amount in order get equal comparison between offering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of eligible goods and services cannot be inflated to cover the“free” ineligible stuff</a:t>
            </a:r>
            <a:endParaRPr b="0" lang="en-US" sz="3200" spc="-1" strike="noStrike">
              <a:solidFill>
                <a:srgbClr val="000000"/>
              </a:solidFill>
              <a:latin typeface="Arial"/>
            </a:endParaRPr>
          </a:p>
          <a:p>
            <a:pPr marL="343080" indent="-343080">
              <a:lnSpc>
                <a:spcPct val="9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portionate cost allocation is required between eligible and ineligible compon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D08BF-887D-407D-A94D-D82AC8DD01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 Services Example</a:t>
            </a:r>
            <a:endParaRPr b="0" lang="en-US" sz="40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unt reba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for product = $100 pre-discou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ate of 20% is avail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only apply for $80 ($100*80%) pre-discoun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Free products” included in a bi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dor A: $10,000 including $1,000 of free produc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dor B: $8,000 for products – no free produc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compar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dor A: $9,000 ($10,000 - $1,000) to Vendor B: $8,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AF937-B3BE-4B14-B6BB-4A00F2FF06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 </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s for Al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Plans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s 470 and RFP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titive Bidding</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dor Selection Proces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ightened Scrutiny</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rdles to Succ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3191E-0C4B-4AE6-B172-E0D8BDF2DA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ying Non-Discount Share</a:t>
            </a:r>
            <a:endParaRPr b="0" lang="en-US" sz="4000" spc="-1" strike="noStrike">
              <a:solidFill>
                <a:srgbClr val="000000"/>
              </a:solidFill>
              <a:latin typeface="Arial"/>
            </a:endParaRPr>
          </a:p>
        </p:txBody>
      </p:sp>
      <p:sp>
        <p:nvSpPr>
          <p:cNvPr id="190" name="PlaceHolder 2"/>
          <p:cNvSpPr>
            <a:spLocks noGrp="1"/>
          </p:cNvSpPr>
          <p:nvPr>
            <p:ph/>
          </p:nvPr>
        </p:nvSpPr>
        <p:spPr>
          <a:xfrm>
            <a:off x="457200" y="1494000"/>
            <a:ext cx="8229600" cy="4525920"/>
          </a:xfrm>
          <a:prstGeom prst="rect">
            <a:avLst/>
          </a:prstGeom>
          <a:noFill/>
          <a:ln w="0">
            <a:noFill/>
          </a:ln>
        </p:spPr>
        <p:txBody>
          <a:bodyPr anchor="t">
            <a:normAutofit fontScale="97000"/>
          </a:bodyPr>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is still </a:t>
            </a:r>
            <a:r>
              <a:rPr b="1" lang="en-US" sz="2600" spc="-1" strike="noStrike">
                <a:solidFill>
                  <a:srgbClr val="000000"/>
                </a:solidFill>
                <a:latin typeface="Arial"/>
              </a:rPr>
              <a:t>no free lunch</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nts will always have to pay at least 10% or more depending on their discount</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ice providers cannot give the money (directly or indirectly) to pay for the non-discounted share</a:t>
            </a:r>
            <a:endParaRPr b="0" lang="en-US" sz="26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s cannot come from the service provider or an entity controlled by the service provider where funding is contingent upon selecting that provider.</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provider bills can’t be ignored or waived.</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pplicant can’t show proof of payment during invoice review; invoice may be denied. </a:t>
            </a:r>
            <a:endParaRPr b="0" lang="en-US" sz="2400" spc="-1" strike="noStrike">
              <a:solidFill>
                <a:srgbClr val="000000"/>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98AE-A4A6-42F6-B41D-74A4AF4A8D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dget Review</a:t>
            </a:r>
            <a:endParaRPr b="0" lang="en-US" sz="40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is for applicant to show us they can fund their share </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ng budget (or draft) has dates that cover the funding year (July – June)</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dget documentation should clearly identify applicant’s share (e.g., expense line item)</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provide letter for reasonable expectation that funds secured by 7/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3119-F678-4686-86E4-E77B883C80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yment Plans</a:t>
            </a:r>
            <a:endParaRPr b="0" lang="en-US" sz="40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nts are required to pay their share at the same time that USAC pays the discount amount.</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Provider certifies that the invoices they submit are for services that “have been billed to service provider’s customers.”</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deferred payment plans that allow the applicant to pay after USAC has paid will jeopardize a funding request.</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C Rules include a presumption that the non-discount share will be paid within 90 days. </a:t>
            </a:r>
            <a:endParaRPr b="0" lang="en-US" sz="28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210B-51BF-45CD-8E67-F2A3B8342E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ightened Scrutiny</a:t>
            </a:r>
            <a:endParaRPr b="0" lang="en-US" sz="40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include review of: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cessary Resour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ve Bidding and Contrac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 Analysi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ed questions based on potential violation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 Review Information Request (SRIR) contains some of the questions we may ask</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reviews will take additional time and will hold up commitments until they are comple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63DB9-81FA-428F-B18C-AF551667F0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cessary Resources</a:t>
            </a:r>
            <a:endParaRPr b="0" lang="en-US" sz="40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eck applicant’s certification that they have them.</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e there end user computers?  </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have reasonable plans to fully utilize all internal connections for which you are requesting discounts (e.g., 2-year plan to get computers for all network drop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y have software to run on the computer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ff trained on how to use the technology?</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ectrical capacity?</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they maintain the eligible and ineligible equip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D33A5-7024-4D05-9385-A078A20AB7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ertifications</a:t>
            </a:r>
            <a:endParaRPr b="0" lang="en-US" sz="40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nts certify th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secured access to necessary resourc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complied with all FCC, state and local competitive bidding and procurement reg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discount portion of the costs for eligible services will not be paid by the service provider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kickbacks were paid to anyone and that false statements on this form can be punished by fine or forfeitur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comply with program rules could result in civil or criminal prosecu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s who have been convicted of criminal violations or held civilly liable for certain acts arising from their participation in the program are subject to suspension and debarment from the progra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ertifications</a:t>
            </a:r>
            <a:endParaRPr b="0" lang="en-US" sz="4000" spc="-1" strike="noStrike">
              <a:solidFill>
                <a:srgbClr val="000000"/>
              </a:solidFill>
              <a:latin typeface="Arial"/>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Providers certify that:</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PIs, services have been billed to customers on behalf of eligible entities and for eligible services, and exclude charges already invoic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s, if asked, must provide detailed cost breakouts of services to applica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may be audit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were arrived at independently, without communicating with other bidders regarding pricing, intent to bid and how you determined your pric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prices won’t be disclosed to another bidder before the bid opening</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2FC49-75D0-44BB-A017-8AFF5BEE95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vice Delivery</a:t>
            </a:r>
            <a:endParaRPr b="0" lang="en-US" sz="4000" spc="-1" strike="noStrike">
              <a:solidFill>
                <a:srgbClr val="000000"/>
              </a:solidFill>
              <a:latin typeface="Arial"/>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providers and applicants should work together to facilitate delivery of servi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receipt of servi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parties (SP and applicant) should monitor delivery of servi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rely on the other party’s reco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documentation of service delivery and any service interrup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nts get Quarterly Disbursement Re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nts may request Invoice Che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29D07-E29E-42D6-A6BD-885E5137D0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ew of Invoices</a:t>
            </a:r>
            <a:endParaRPr b="0" lang="en-US" sz="4000" spc="-1" strike="noStrike">
              <a:solidFill>
                <a:srgbClr val="000000"/>
              </a:solidFill>
              <a:latin typeface="Arial"/>
            </a:endParaRPr>
          </a:p>
        </p:txBody>
      </p:sp>
      <p:sp>
        <p:nvSpPr>
          <p:cNvPr id="213"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pp must review BEAR/SPI to ensur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eligible services are being billed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ervices that were approved on the application are being billed</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were delivered consistent with the FCDL and any agreement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service interruptions are accounted for</a:t>
            </a:r>
            <a:endParaRPr b="0" lang="en-US" sz="28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its or discounts are apportioned to both USAC and the applicant</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51E97-443D-4F4B-A91A-C8C5ACA87F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cument Retention</a:t>
            </a:r>
            <a:endParaRPr b="0" lang="en-US" sz="4000" spc="-1" strike="noStrike">
              <a:solidFill>
                <a:srgbClr val="000000"/>
              </a:solidFill>
              <a:latin typeface="Arial"/>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retention timefram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years from last date to receive servic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10 – this is at least </a:t>
            </a:r>
            <a:r>
              <a:rPr b="0" lang="en-US" sz="2400" spc="-1" strike="noStrike">
                <a:solidFill>
                  <a:srgbClr val="ff0000"/>
                </a:solidFill>
                <a:latin typeface="Arial"/>
              </a:rPr>
              <a:t>June 30, 2016</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document from a </a:t>
            </a:r>
            <a:r>
              <a:rPr b="0" i="1" lang="en-US" sz="2800" spc="-1" strike="noStrike">
                <a:solidFill>
                  <a:srgbClr val="000000"/>
                </a:solidFill>
                <a:latin typeface="Arial"/>
              </a:rPr>
              <a:t>prior year </a:t>
            </a:r>
            <a:r>
              <a:rPr b="0" lang="en-US" sz="2800" spc="-1" strike="noStrike">
                <a:solidFill>
                  <a:srgbClr val="000000"/>
                </a:solidFill>
                <a:latin typeface="Arial"/>
              </a:rPr>
              <a:t>that supports current year must be kept until 5 years from last date to receive service as wel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Contract from 2004, used to support FY 2010 FRNs, must be kept until at least </a:t>
            </a:r>
            <a:r>
              <a:rPr b="0" lang="en-US" sz="2800" spc="-1" strike="noStrike">
                <a:solidFill>
                  <a:srgbClr val="ff0000"/>
                </a:solidFill>
                <a:latin typeface="Arial"/>
              </a:rPr>
              <a:t>June 30, 2016</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A740-1420-4067-8578-1C5A207237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C0F62-67E5-46C6-AA5F-5BA17CD6CB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now Your Role</a:t>
            </a:r>
            <a:endParaRPr b="0" lang="en-US" sz="40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n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ech plan, file Form 470 and write RFP, evaluate bids, select provider, document the process, file Form 471, get tech plan approved, file Form 486, select invoice method, file BEAR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Provider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d to 470/RFPs, assist with preparing Item 21 attachments, provide technical answers on questions regarding specific goods and services requested, but NOT on competitive bidding; file SPIs and/or approve BEARs; file SPAC</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ltan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the role of their client – either applicant or service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25E45-A1D3-42CF-9114-6AC9503D03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ed Your Files</a:t>
            </a:r>
            <a:endParaRPr b="0" lang="en-US" sz="40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nts must retain all precommitment documents that show compliance with all FCC rules</a:t>
            </a:r>
            <a:endParaRPr b="0" lang="en-US" sz="26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e complete lists:</a:t>
            </a:r>
            <a:endParaRPr b="0" lang="en-US" sz="3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ation Retention Requir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ation Checklist</a:t>
            </a:r>
            <a:endParaRPr b="0" lang="en-US" sz="28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ate Binder Table of Contents</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F0C7-8ED1-474E-B7EE-2016D8C8B1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ain, retain, retain</a:t>
            </a:r>
            <a:endParaRPr b="0" lang="en-US" sz="40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tain documents to show your complianc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tters of Agency and any agreements with all consultant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chnology Plan (both draft and final approved version) and CTPA Plan Approval lett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FP, including evidence of publication date and any solicitation you di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y and all bids (winning and losing)</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to yourself if you get no or one bi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6B4A2-5B95-43F1-8D9D-F48B7C638B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ain, retain, retain</a:t>
            </a:r>
            <a:endParaRPr b="0" lang="en-US" sz="4000" spc="-1" strike="noStrike">
              <a:solidFill>
                <a:srgbClr val="000000"/>
              </a:solidFill>
              <a:latin typeface="Arial"/>
            </a:endParaRPr>
          </a:p>
        </p:txBody>
      </p:sp>
      <p:sp>
        <p:nvSpPr>
          <p:cNvPr id="226" name="PlaceHolder 2"/>
          <p:cNvSpPr>
            <a:spLocks noGrp="1"/>
          </p:cNvSpPr>
          <p:nvPr>
            <p:ph/>
          </p:nvPr>
        </p:nvSpPr>
        <p:spPr>
          <a:xfrm>
            <a:off x="304920" y="1600200"/>
            <a:ext cx="8534160" cy="45259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nts retain documents to show compliance: </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s describing bid evaluation criteria and weighting</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y correspondence with potential bidder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s related to the selection of the service provider(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gned and dated copies of contract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so, see further list on USAC website</a:t>
            </a:r>
            <a:endParaRPr b="0" lang="en-US" sz="26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for 5 years after last date to receive service – for FY 2010 </a:t>
            </a:r>
            <a:r>
              <a:rPr b="1" lang="en-US" sz="2800" spc="-1" strike="noStrike">
                <a:solidFill>
                  <a:srgbClr val="000000"/>
                </a:solidFill>
                <a:latin typeface="Arial"/>
              </a:rPr>
              <a:t>at least</a:t>
            </a:r>
            <a:r>
              <a:rPr b="0" lang="en-US" sz="2800" spc="-1" strike="noStrike">
                <a:solidFill>
                  <a:srgbClr val="000000"/>
                </a:solidFill>
                <a:latin typeface="Arial"/>
              </a:rPr>
              <a:t> June 30, 201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tain, retain, retain for SPs</a:t>
            </a:r>
            <a:endParaRPr b="0" lang="en-US" sz="4000" spc="-1" strike="noStrike">
              <a:solidFill>
                <a:srgbClr val="000000"/>
              </a:solidFill>
              <a:latin typeface="Arial"/>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Providers must retai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ies of your bi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s signed with applica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spondence with applicants regarding bidding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of delivery of the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ation of any service down ti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s of maintenance perform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7E817-D615-47A6-97FB-9C35AC0B8C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mall Hurdles</a:t>
            </a:r>
            <a:endParaRPr b="0" lang="en-US" sz="4000" spc="-1" strike="noStrike">
              <a:solidFill>
                <a:srgbClr val="000000"/>
              </a:solidFill>
              <a:latin typeface="Arial"/>
            </a:endParaRPr>
          </a:p>
        </p:txBody>
      </p:sp>
      <p:graphicFrame>
        <p:nvGraphicFramePr>
          <p:cNvPr id="231" name=""/>
          <p:cNvGraphicFramePr/>
          <p:nvPr/>
        </p:nvGraphicFramePr>
        <p:xfrm>
          <a:off x="457200" y="1274760"/>
          <a:ext cx="8229600" cy="5126040"/>
        </p:xfrm>
        <a:graphic>
          <a:graphicData uri="http://schemas.openxmlformats.org/drawingml/2006/table">
            <a:tbl>
              <a:tblPr/>
              <a:tblGrid>
                <a:gridCol w="1600200"/>
                <a:gridCol w="5029200"/>
                <a:gridCol w="1600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21 provides only generic product and service description (e.g. “servers” or “turnkey Internet Ac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er must reach out for detailed description including make and model and specific use of the ser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15 days for applicant + 1 week for 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s the issuance of the FCDL (and by extension, your ability to invoice).  Invoicing team may look at the specifics in the Item 21 attachment to confirm eligibility of the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thereafter, 1 additional wee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is b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with your applicant to provide detailed Item 21 attachments including make and model number and functions and </a:t>
                      </a:r>
                      <a:r>
                        <a:rPr b="1" lang="en-US" sz="1800" spc="-1" strike="noStrike">
                          <a:solidFill>
                            <a:srgbClr val="000000"/>
                          </a:solidFill>
                          <a:latin typeface="Arial"/>
                        </a:rPr>
                        <a:t>submit with the applicatio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ind applicants to include function for servers, cost allocation, &amp; any certificatio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232"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417A-B70B-474A-BE53-13B6F62D28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mall Hurdles</a:t>
            </a:r>
            <a:endParaRPr b="0" lang="en-US" sz="4000" spc="-1" strike="noStrike">
              <a:solidFill>
                <a:srgbClr val="000000"/>
              </a:solidFill>
              <a:latin typeface="Arial"/>
            </a:endParaRPr>
          </a:p>
        </p:txBody>
      </p:sp>
      <p:graphicFrame>
        <p:nvGraphicFramePr>
          <p:cNvPr id="234" name=""/>
          <p:cNvGraphicFramePr/>
          <p:nvPr/>
        </p:nvGraphicFramePr>
        <p:xfrm>
          <a:off x="457200" y="1152360"/>
          <a:ext cx="8229600" cy="5126040"/>
        </p:xfrm>
        <a:graphic>
          <a:graphicData uri="http://schemas.openxmlformats.org/drawingml/2006/table">
            <a:tbl>
              <a:tblPr/>
              <a:tblGrid>
                <a:gridCol w="1600200"/>
                <a:gridCol w="5029200"/>
                <a:gridCol w="1600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provided during PIA review is inconsistent with the information on Form 47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er must reach out and resolve the discrepan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20 days + 1 week for P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s the issuance of the FCDL (and by extension, your ability to invoi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 1 wee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83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is b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with your applicant to review the information that will be included in your funding requests.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for a copy of the submitted Item 21</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the one writing the contract, provide clear (and possibly separate list) of the eligible components, specific information related to invoicing (pre-payments or progress payments) and other program compliance related informa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235"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6DDC-EAA9-4438-8054-05F6CC3115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dium Hurdles</a:t>
            </a:r>
            <a:endParaRPr b="0" lang="en-US" sz="4000" spc="-1" strike="noStrike">
              <a:solidFill>
                <a:srgbClr val="000000"/>
              </a:solidFill>
              <a:latin typeface="Arial"/>
            </a:endParaRPr>
          </a:p>
        </p:txBody>
      </p:sp>
      <p:graphicFrame>
        <p:nvGraphicFramePr>
          <p:cNvPr id="237" name=""/>
          <p:cNvGraphicFramePr/>
          <p:nvPr/>
        </p:nvGraphicFramePr>
        <p:xfrm>
          <a:off x="457200" y="1274760"/>
          <a:ext cx="8229600" cy="4313160"/>
        </p:xfrm>
        <a:graphic>
          <a:graphicData uri="http://schemas.openxmlformats.org/drawingml/2006/table">
            <a:tbl>
              <a:tblPr/>
              <a:tblGrid>
                <a:gridCol w="1600200"/>
                <a:gridCol w="5029200"/>
                <a:gridCol w="1600200"/>
              </a:tblGrid>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 triggers criteria for Selective Revi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 get a Selective Revi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0 d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 must submit significantly more information, which takes time to gather and review. PIA may ask follow up questions.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must go through multi-level review proces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s the issuance of the FCDL (and by extension, your ability to invoi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90 day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is b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ompletely avoidable but made easier by</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y with all program rules, as well as state and local laws and regulation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complete set of documen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238"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C6280-498A-4522-8FD2-5A341307ED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dium Hurdles</a:t>
            </a:r>
            <a:endParaRPr b="0" lang="en-US" sz="4000" spc="-1" strike="noStrike">
              <a:solidFill>
                <a:srgbClr val="000000"/>
              </a:solidFill>
              <a:latin typeface="Arial"/>
            </a:endParaRPr>
          </a:p>
        </p:txBody>
      </p:sp>
      <p:graphicFrame>
        <p:nvGraphicFramePr>
          <p:cNvPr id="240" name=""/>
          <p:cNvGraphicFramePr/>
          <p:nvPr/>
        </p:nvGraphicFramePr>
        <p:xfrm>
          <a:off x="457200" y="1143000"/>
          <a:ext cx="8229600" cy="5400720"/>
        </p:xfrm>
        <a:graphic>
          <a:graphicData uri="http://schemas.openxmlformats.org/drawingml/2006/table">
            <a:tbl>
              <a:tblPr/>
              <a:tblGrid>
                <a:gridCol w="1600200"/>
                <a:gridCol w="5029200"/>
                <a:gridCol w="1600200"/>
              </a:tblGrid>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s requests funding for very expensive widget and/or very expensive mainte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635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 undergoes Cost Effectiveness Revi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30 d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 must gather support for why widget/maintenance was selected, and explain why such an expensive product or service is necessary</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must go through multi-level review proces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s the issuance of the FCDL (and by extension, your ability to invoi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45 d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is b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that the services that you are proposing are “right sized”.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ircumstances dictate an expensive solution, be prepared to explain why that solution is necessary and cost-effectiv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241"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B159C-B729-42B7-84CC-94A040A071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dium Hurdles</a:t>
            </a:r>
            <a:endParaRPr b="0" lang="en-US" sz="4000" spc="-1" strike="noStrike">
              <a:solidFill>
                <a:srgbClr val="000000"/>
              </a:solidFill>
              <a:latin typeface="Arial"/>
            </a:endParaRPr>
          </a:p>
        </p:txBody>
      </p:sp>
      <p:graphicFrame>
        <p:nvGraphicFramePr>
          <p:cNvPr id="243" name=""/>
          <p:cNvGraphicFramePr/>
          <p:nvPr/>
        </p:nvGraphicFramePr>
        <p:xfrm>
          <a:off x="457200" y="1274760"/>
          <a:ext cx="8229600" cy="5126040"/>
        </p:xfrm>
        <a:graphic>
          <a:graphicData uri="http://schemas.openxmlformats.org/drawingml/2006/table">
            <a:tbl>
              <a:tblPr/>
              <a:tblGrid>
                <a:gridCol w="1600200"/>
                <a:gridCol w="5029200"/>
                <a:gridCol w="1600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 Provider fails to file FCC Form 4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total: function of your time to file Form 4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r loses their “Y” and is ineligible to provide telecommunications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r loses business as applicants are given the opportunity to change to a different provider during PIA review.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s that stay with you can lose their telecommunications fund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is b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l correspondence from USAC.</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your FCC Form 499 on tim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your Filer ID on the Form 499</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officers aware of filing requirements and importance of the corresponden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244"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12199-74DC-4833-A963-6D3D820328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rge Hurdles</a:t>
            </a:r>
            <a:endParaRPr b="0" lang="en-US" sz="4000" spc="-1" strike="noStrike">
              <a:solidFill>
                <a:srgbClr val="000000"/>
              </a:solidFill>
              <a:latin typeface="Arial"/>
            </a:endParaRPr>
          </a:p>
        </p:txBody>
      </p:sp>
      <p:graphicFrame>
        <p:nvGraphicFramePr>
          <p:cNvPr id="246" name=""/>
          <p:cNvGraphicFramePr/>
          <p:nvPr/>
        </p:nvGraphicFramePr>
        <p:xfrm>
          <a:off x="457200" y="1219320"/>
          <a:ext cx="8229600" cy="4851360"/>
        </p:xfrm>
        <a:graphic>
          <a:graphicData uri="http://schemas.openxmlformats.org/drawingml/2006/table">
            <a:tbl>
              <a:tblPr/>
              <a:tblGrid>
                <a:gridCol w="1600200"/>
                <a:gridCol w="5029200"/>
                <a:gridCol w="1600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C Beneficiary audit discovers delivery of ineligible equipment to eligible and ineligible locations after the payment of an invoi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year for audit process to comple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C initiates audit response process and possibly COMAD/RID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30 d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 must gather and submit additional informatio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teams conduct special analysi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teams may ask additional question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s may be reviewed by senior staff</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ing rescinded; $ may be recovered.</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s issuance of pending commitment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s payment of pending invoic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120 day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is b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y with program rules, state and local regulations and la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247"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C8A85-08F7-45D7-A77E-85A5B7AF3C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bidding Discussions</a:t>
            </a:r>
            <a:endParaRPr b="0" lang="en-US" sz="40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nts may:</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ir product offering with SPs</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about new technologies from SPs</a:t>
            </a:r>
            <a:endParaRPr b="0" lang="en-US" sz="2800" spc="-1" strike="noStrike">
              <a:solidFill>
                <a:srgbClr val="000000"/>
              </a:solidFill>
              <a:latin typeface="Arial"/>
            </a:endParaRPr>
          </a:p>
          <a:p>
            <a:pPr marL="325800" indent="-325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nts may </a:t>
            </a:r>
            <a:r>
              <a:rPr b="0" lang="en-US" sz="3200" spc="-1" strike="noStrike">
                <a:solidFill>
                  <a:srgbClr val="ff0000"/>
                </a:solidFill>
                <a:latin typeface="Arial"/>
              </a:rPr>
              <a:t>NOT</a:t>
            </a:r>
            <a:r>
              <a:rPr b="0" lang="en-US" sz="3200" spc="-1" strike="noStrike">
                <a:solidFill>
                  <a:srgbClr val="000000"/>
                </a:solidFill>
                <a:latin typeface="Arial"/>
              </a:rPr>
              <a:t> accept/use the following from service provider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dor-specific language for RFP or the 470</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late RFPs or Forms 470</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with tech plan </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with RFP</a:t>
            </a:r>
            <a:endParaRPr b="0" lang="en-US" sz="2800" spc="-1" strike="noStrike">
              <a:solidFill>
                <a:srgbClr val="000000"/>
              </a:solidFill>
              <a:latin typeface="Arial"/>
            </a:endParaRPr>
          </a:p>
        </p:txBody>
      </p:sp>
      <p:sp>
        <p:nvSpPr>
          <p:cNvPr id="142"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0C66B-000C-4768-A1D7-D9D6B5F601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rge Hurdles</a:t>
            </a:r>
            <a:endParaRPr b="0" lang="en-US" sz="4000" spc="-1" strike="noStrike">
              <a:solidFill>
                <a:srgbClr val="000000"/>
              </a:solidFill>
              <a:latin typeface="Arial"/>
            </a:endParaRPr>
          </a:p>
        </p:txBody>
      </p:sp>
      <p:graphicFrame>
        <p:nvGraphicFramePr>
          <p:cNvPr id="249" name=""/>
          <p:cNvGraphicFramePr/>
          <p:nvPr/>
        </p:nvGraphicFramePr>
        <p:xfrm>
          <a:off x="457200" y="1274760"/>
          <a:ext cx="8229600" cy="5130720"/>
        </p:xfrm>
        <a:graphic>
          <a:graphicData uri="http://schemas.openxmlformats.org/drawingml/2006/table">
            <a:tbl>
              <a:tblPr/>
              <a:tblGrid>
                <a:gridCol w="1600200"/>
                <a:gridCol w="5029200"/>
                <a:gridCol w="1600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esult of the audit, applicant must return funds to USAC and fails to pay on 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s Red Light is turned 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30 d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no payments within 30 days from the Notice of Dismissal Letter, all pending funding requests are denied.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provider cannot invoice for the services that were in the pending reque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45 d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is b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l correspondence from USAC.</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problem that resulted in the COMAD.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y with program rules, state and local regulations and law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complete records.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voiced by USAC pay, or if disagree, appeal within the required timefram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250"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E95A2-6567-43D5-8D51-DF394584FA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rge Hurdles</a:t>
            </a:r>
            <a:endParaRPr b="0" lang="en-US" sz="4000" spc="-1" strike="noStrike">
              <a:solidFill>
                <a:srgbClr val="000000"/>
              </a:solidFill>
              <a:latin typeface="Arial"/>
            </a:endParaRPr>
          </a:p>
        </p:txBody>
      </p:sp>
      <p:graphicFrame>
        <p:nvGraphicFramePr>
          <p:cNvPr id="252" name=""/>
          <p:cNvGraphicFramePr/>
          <p:nvPr/>
        </p:nvGraphicFramePr>
        <p:xfrm>
          <a:off x="457200" y="1274760"/>
          <a:ext cx="8229600" cy="4581360"/>
        </p:xfrm>
        <a:graphic>
          <a:graphicData uri="http://schemas.openxmlformats.org/drawingml/2006/table">
            <a:tbl>
              <a:tblPr/>
              <a:tblGrid>
                <a:gridCol w="1600200"/>
                <a:gridCol w="5029200"/>
                <a:gridCol w="1600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esult of the audit, service provider must return funds to USAC and fails to pay on 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r’s Red Light is turned 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30 d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voices are held.</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s are not forthcoming for pending invoic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payment is ma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is b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l correspondence from USAC.</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problem that resulted in the COMAD.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y with program rules, state and local regulations and law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complete records.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voiced by USAC pay, or if disagree, appeal within the required timefram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253"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C821-8BDB-40B5-9329-5D9BD86BBE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rge Hurdles</a:t>
            </a:r>
            <a:endParaRPr b="0" lang="en-US" sz="4000" spc="-1" strike="noStrike">
              <a:solidFill>
                <a:srgbClr val="000000"/>
              </a:solidFill>
              <a:latin typeface="Arial"/>
            </a:endParaRPr>
          </a:p>
        </p:txBody>
      </p:sp>
      <p:graphicFrame>
        <p:nvGraphicFramePr>
          <p:cNvPr id="255" name=""/>
          <p:cNvGraphicFramePr/>
          <p:nvPr/>
        </p:nvGraphicFramePr>
        <p:xfrm>
          <a:off x="457200" y="1219320"/>
          <a:ext cx="8229600" cy="4765680"/>
        </p:xfrm>
        <a:graphic>
          <a:graphicData uri="http://schemas.openxmlformats.org/drawingml/2006/table">
            <a:tbl>
              <a:tblPr/>
              <a:tblGrid>
                <a:gridCol w="1600200"/>
                <a:gridCol w="5029200"/>
                <a:gridCol w="1600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esult of the audit, applicant and/or SP is deemed a non-compliant audite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C initiates non-compliant auditee proces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30 d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385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 must update their processes and procedures that lead to the audit finding and then demonstrate to USAC that additional controls have been put in place that will prevent the same problem from recurring.</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ing is put on hold during this time.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teams conduct special analysi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s may be reviewed by senior staff</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s issuance of pending commitment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s payment of pending invoices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response by due date, pending funding is denie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 month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
        <p:nvSpPr>
          <p:cNvPr id="256"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0BAF7-1C87-4C60-A24B-180D653B1D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rge Hurdles</a:t>
            </a:r>
            <a:endParaRPr b="0" lang="en-US" sz="4000" spc="-1" strike="noStrike">
              <a:solidFill>
                <a:srgbClr val="000000"/>
              </a:solidFill>
              <a:latin typeface="Arial"/>
            </a:endParaRPr>
          </a:p>
        </p:txBody>
      </p:sp>
      <p:graphicFrame>
        <p:nvGraphicFramePr>
          <p:cNvPr id="258" name=""/>
          <p:cNvGraphicFramePr/>
          <p:nvPr/>
        </p:nvGraphicFramePr>
        <p:xfrm>
          <a:off x="457200" y="1447920"/>
          <a:ext cx="8229600" cy="3205080"/>
        </p:xfrm>
        <a:graphic>
          <a:graphicData uri="http://schemas.openxmlformats.org/drawingml/2006/table">
            <a:tbl>
              <a:tblPr/>
              <a:tblGrid>
                <a:gridCol w="1600200"/>
                <a:gridCol w="5029200"/>
                <a:gridCol w="1600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283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is b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l correspondence from USAC.</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problem that resulted in the COMAD.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y with program rules, state and local regulations and law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complete records.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a robust set of internal controls and provide training to your employees to ensure all members of your organization “know the rul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bl>
          </a:graphicData>
        </a:graphic>
      </p:graphicFrame>
      <p:sp>
        <p:nvSpPr>
          <p:cNvPr id="259"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09B0-CA65-488C-9EC0-783A3350E0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rge Hurdles</a:t>
            </a:r>
            <a:endParaRPr b="0" lang="en-US" sz="4000" spc="-1" strike="noStrike">
              <a:solidFill>
                <a:srgbClr val="000000"/>
              </a:solidFill>
              <a:latin typeface="Arial"/>
            </a:endParaRPr>
          </a:p>
        </p:txBody>
      </p:sp>
      <p:graphicFrame>
        <p:nvGraphicFramePr>
          <p:cNvPr id="261" name=""/>
          <p:cNvGraphicFramePr/>
          <p:nvPr/>
        </p:nvGraphicFramePr>
        <p:xfrm>
          <a:off x="457200" y="1274760"/>
          <a:ext cx="8229600" cy="4759200"/>
        </p:xfrm>
        <a:graphic>
          <a:graphicData uri="http://schemas.openxmlformats.org/drawingml/2006/table">
            <a:tbl>
              <a:tblPr/>
              <a:tblGrid>
                <a:gridCol w="1600200"/>
                <a:gridCol w="5029200"/>
                <a:gridCol w="1600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Provider acts as the Applicant’s Consultant</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stleblower call comes into USA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undergoes heightened scrutiny by various review tea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90 day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83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 has to gather and submit additional documentation.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teams conduct special analysi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teams may ask additional questions, and even conduct on-site interview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ecisions reviewed by senior USAC staff</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ding commitments are put on hold.</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ding invoices may also be put on hold.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s payment of pending invoic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90 da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
        <p:nvSpPr>
          <p:cNvPr id="262"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D3368-2FF9-4EDF-8CB8-57388DBD2D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rge Hurdles</a:t>
            </a:r>
            <a:endParaRPr b="0" lang="en-US" sz="4000" spc="-1" strike="noStrike">
              <a:solidFill>
                <a:srgbClr val="000000"/>
              </a:solidFill>
              <a:latin typeface="Arial"/>
            </a:endParaRPr>
          </a:p>
        </p:txBody>
      </p:sp>
      <p:graphicFrame>
        <p:nvGraphicFramePr>
          <p:cNvPr id="264" name=""/>
          <p:cNvGraphicFramePr/>
          <p:nvPr/>
        </p:nvGraphicFramePr>
        <p:xfrm>
          <a:off x="457200" y="1447920"/>
          <a:ext cx="8229600" cy="3754440"/>
        </p:xfrm>
        <a:graphic>
          <a:graphicData uri="http://schemas.openxmlformats.org/drawingml/2006/table">
            <a:tbl>
              <a:tblPr/>
              <a:tblGrid>
                <a:gridCol w="1600200"/>
                <a:gridCol w="5029200"/>
                <a:gridCol w="1600200"/>
              </a:tblGrid>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3385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is b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y with program rules, state and local regulations and law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complete records.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act as the applicant’s consult, or take actions that may give the APPEARANCE of doing so. This includes providing any assistance for any competitive bidding item including the Form 470 and/or the RFP.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a robust set of internal controls and provide training to your employees to ensure all members of your organization “know the rul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bl>
          </a:graphicData>
        </a:graphic>
      </p:graphicFrame>
      <p:sp>
        <p:nvSpPr>
          <p:cNvPr id="265"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2C433-24D2-4E9E-ABC1-C46FE112C2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rge Hurdles</a:t>
            </a:r>
            <a:endParaRPr b="0" lang="en-US" sz="4000" spc="-1" strike="noStrike">
              <a:solidFill>
                <a:srgbClr val="000000"/>
              </a:solidFill>
              <a:latin typeface="Arial"/>
            </a:endParaRPr>
          </a:p>
        </p:txBody>
      </p:sp>
      <p:graphicFrame>
        <p:nvGraphicFramePr>
          <p:cNvPr id="267" name=""/>
          <p:cNvGraphicFramePr/>
          <p:nvPr/>
        </p:nvGraphicFramePr>
        <p:xfrm>
          <a:off x="457200" y="1274760"/>
          <a:ext cx="8229600" cy="4759200"/>
        </p:xfrm>
        <a:graphic>
          <a:graphicData uri="http://schemas.openxmlformats.org/drawingml/2006/table">
            <a:tbl>
              <a:tblPr/>
              <a:tblGrid>
                <a:gridCol w="1600200"/>
                <a:gridCol w="5029200"/>
                <a:gridCol w="1600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provider and/or applicant engages in fraud or anti-competitive conduct, including conflict-of-interest, market allocation, collusion, bid-rigging, etc.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stleblower call come in to USA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undergoes heightened scrutiny by a variety of review team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180 d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ding commitments are put on hold.</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ding invoices may also be put on hold.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 has to gather and submit additional information.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teams conduct special analysi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teams may ask additional questions, and even conduct on-site interview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application by senior USAC staf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
        <p:nvSpPr>
          <p:cNvPr id="268"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BE8F-DCD7-4E59-B09D-63235D9D8C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rge Hurdles</a:t>
            </a:r>
            <a:endParaRPr b="0" lang="en-US" sz="4000" spc="-1" strike="noStrike">
              <a:solidFill>
                <a:srgbClr val="000000"/>
              </a:solidFill>
              <a:latin typeface="Arial"/>
            </a:endParaRPr>
          </a:p>
        </p:txBody>
      </p:sp>
      <p:graphicFrame>
        <p:nvGraphicFramePr>
          <p:cNvPr id="270" name=""/>
          <p:cNvGraphicFramePr/>
          <p:nvPr/>
        </p:nvGraphicFramePr>
        <p:xfrm>
          <a:off x="457200" y="1447920"/>
          <a:ext cx="8229600" cy="3844800"/>
        </p:xfrm>
        <a:graphic>
          <a:graphicData uri="http://schemas.openxmlformats.org/drawingml/2006/table">
            <a:tbl>
              <a:tblPr/>
              <a:tblGrid>
                <a:gridCol w="1600200"/>
                <a:gridCol w="5029200"/>
                <a:gridCol w="1600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marL="343080" indent="-34308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 enforcement agencies launch own investigations, possibly resulting in civil or criminal actions, including trials, which can result in fines and/or pris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t; 1 yea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is b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y with program rules, state and local regulations and law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complete records.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engage in illegal activity.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a robust set of internal controls and provide training to your employees to ensure all members of your organization “know the rul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271"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66BA-B6D5-4E8F-B13A-357636EF55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79AB6-C0A8-437D-AF2F-4B312314F1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FA29F-8B4D-4B11-946F-432C2E2A66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 Plan Requirements</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by schools and libraries</a:t>
            </a:r>
            <a:endParaRPr b="0" lang="en-US" sz="3200" spc="-1" strike="noStrike">
              <a:solidFill>
                <a:srgbClr val="000000"/>
              </a:solidFill>
              <a:latin typeface="Arial"/>
            </a:endParaRPr>
          </a:p>
          <a:p>
            <a:pPr marL="609480" indent="-609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on must precede Form 470/RFP </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th and year that the plan is “written”</a:t>
            </a:r>
            <a:endParaRPr b="0" lang="en-US" sz="2800" spc="-1" strike="noStrike">
              <a:solidFill>
                <a:srgbClr val="000000"/>
              </a:solidFill>
              <a:latin typeface="Arial"/>
            </a:endParaRPr>
          </a:p>
          <a:p>
            <a:pPr marL="609480" indent="-609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elements</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strategy for using technology</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development strategy</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assessment</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icient budget</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0392E-AAC7-4BA5-9DC4-418D3501D2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 Plan Requirements</a:t>
            </a: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just “speeds and feeds”</a:t>
            </a:r>
            <a:endParaRPr b="0" lang="en-US" sz="3200" spc="-1" strike="noStrike">
              <a:solidFill>
                <a:srgbClr val="000000"/>
              </a:solidFill>
              <a:latin typeface="Arial"/>
            </a:endParaRPr>
          </a:p>
          <a:p>
            <a:pPr marL="322200" indent="-322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fficient detail to </a:t>
            </a:r>
            <a:r>
              <a:rPr b="0" lang="en-US" sz="3200" spc="-1" strike="noStrike">
                <a:solidFill>
                  <a:srgbClr val="ff0000"/>
                </a:solidFill>
                <a:latin typeface="Arial"/>
              </a:rPr>
              <a:t>support and validate the services</a:t>
            </a:r>
            <a:r>
              <a:rPr b="0" lang="en-US" sz="3200" spc="-1" strike="noStrike">
                <a:solidFill>
                  <a:srgbClr val="000000"/>
                </a:solidFill>
                <a:latin typeface="Arial"/>
              </a:rPr>
              <a:t> requested</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22200" indent="-322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 all 12 months of the funding year</a:t>
            </a:r>
            <a:endParaRPr b="0" lang="en-US" sz="3200" spc="-1" strike="noStrike">
              <a:solidFill>
                <a:srgbClr val="000000"/>
              </a:solidFill>
              <a:latin typeface="Arial"/>
            </a:endParaRPr>
          </a:p>
          <a:p>
            <a:pPr marL="322200" indent="-322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pproved by a USAC-certified Technology Plan Approver (TPA) before Form 486 is filed or services start, whichever is sooner</a:t>
            </a:r>
            <a:endParaRPr b="0" lang="en-US" sz="3200" spc="-1" strike="noStrike">
              <a:solidFill>
                <a:srgbClr val="000000"/>
              </a:solidFill>
              <a:latin typeface="Arial"/>
            </a:endParaRPr>
          </a:p>
          <a:p>
            <a:pPr marL="322200" indent="-322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eneral, cover not more than 3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D30EF-5432-4365-BCBB-AEF8E541D5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titive Bidding</a:t>
            </a: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air and open competitive bidding proces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conflicts of interes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consultant </a:t>
            </a:r>
            <a:r>
              <a:rPr b="0" lang="en-US" sz="2400" spc="-1" strike="noStrike">
                <a:solidFill>
                  <a:srgbClr val="000000"/>
                </a:solidFill>
                <a:latin typeface="Wingdings"/>
                <a:ea typeface="Wingdings"/>
              </a:rPr>
              <a:t></a:t>
            </a:r>
            <a:r>
              <a:rPr b="0" lang="en-US" sz="2400" spc="-1" strike="noStrike">
                <a:solidFill>
                  <a:srgbClr val="000000"/>
                </a:solidFill>
                <a:latin typeface="Arial"/>
              </a:rPr>
              <a:t>Service Provid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nt </a:t>
            </a:r>
            <a:r>
              <a:rPr b="0" lang="en-US" sz="2400" spc="-1" strike="noStrike">
                <a:solidFill>
                  <a:srgbClr val="000000"/>
                </a:solidFill>
                <a:latin typeface="Wingdings"/>
                <a:ea typeface="Wingdings"/>
              </a:rPr>
              <a:t></a:t>
            </a:r>
            <a:r>
              <a:rPr b="0" lang="en-US" sz="2400" spc="-1" strike="noStrike">
                <a:solidFill>
                  <a:srgbClr val="000000"/>
                </a:solidFill>
                <a:latin typeface="Arial"/>
              </a:rPr>
              <a:t> Service Provider</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competition and bid evalua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 all rules – FCC and state/loca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the contract fine prin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your documentatio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ain, retain, lessen your p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4CC1C-D3E4-4CE5-A4E9-3E7A2E709F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s 470</a:t>
            </a: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s the services and categories of service which entities are seeking</a:t>
            </a:r>
            <a:endParaRPr b="0" lang="en-US" sz="28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based on tech plan</a:t>
            </a:r>
            <a:endParaRPr b="0" lang="en-US" sz="28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posted for 28 days </a:t>
            </a:r>
            <a:endParaRPr b="0" lang="en-US" sz="28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s if they are planning/have issued RFP</a:t>
            </a:r>
            <a:endParaRPr b="0" lang="en-US" sz="28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s any special requirements and/or disqualification factors</a:t>
            </a:r>
            <a:endParaRPr b="0" lang="en-US" sz="28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s who will be receiving the service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4038480" y="647712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1D053-629F-4C75-A074-768CE0A25F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quests for Proposal</a:t>
            </a:r>
            <a:endParaRPr b="0" lang="en-US" sz="4000" spc="-1" strike="noStrike">
              <a:solidFill>
                <a:srgbClr val="000000"/>
              </a:solidFill>
              <a:latin typeface="Arial"/>
            </a:endParaRPr>
          </a:p>
        </p:txBody>
      </p:sp>
      <p:sp>
        <p:nvSpPr>
          <p:cNvPr id="157" name="PlaceHolder 2"/>
          <p:cNvSpPr>
            <a:spLocks noGrp="1"/>
          </p:cNvSpPr>
          <p:nvPr>
            <p:ph/>
          </p:nvPr>
        </p:nvSpPr>
        <p:spPr>
          <a:xfrm>
            <a:off x="457200" y="1417680"/>
            <a:ext cx="8229600" cy="4525920"/>
          </a:xfrm>
          <a:prstGeom prst="rect">
            <a:avLst/>
          </a:prstGeom>
          <a:noFill/>
          <a:ln w="0">
            <a:noFill/>
          </a:ln>
        </p:spPr>
        <p:txBody>
          <a:bodyPr anchor="t">
            <a:normAutofit fontScale="93000"/>
          </a:bodyPr>
          <a:p>
            <a:pPr marL="318960" indent="-31896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CC rules do not require RFP but state and local procurement rules may</a:t>
            </a:r>
            <a:endParaRPr b="0" lang="en-US" sz="3200" spc="-1" strike="noStrike">
              <a:solidFill>
                <a:srgbClr val="000000"/>
              </a:solidFill>
              <a:latin typeface="Arial"/>
            </a:endParaRPr>
          </a:p>
          <a:p>
            <a:pPr marL="318960" indent="-31896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based on entities’ tech plan</a:t>
            </a:r>
            <a:endParaRPr b="0" lang="en-US" sz="3200" spc="-1" strike="noStrike">
              <a:solidFill>
                <a:srgbClr val="000000"/>
              </a:solidFill>
              <a:latin typeface="Arial"/>
            </a:endParaRPr>
          </a:p>
          <a:p>
            <a:pPr marL="318960" indent="-31896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available to bidders for at least 28 days</a:t>
            </a:r>
            <a:endParaRPr b="0" lang="en-US" sz="32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28 days from the later of the two posted (470 and RFP)</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P cannot close before 28 days for 470 is up</a:t>
            </a:r>
            <a:endParaRPr b="0" lang="en-US" sz="2800" spc="-1" strike="noStrike">
              <a:solidFill>
                <a:srgbClr val="000000"/>
              </a:solidFill>
              <a:latin typeface="Arial"/>
            </a:endParaRPr>
          </a:p>
          <a:p>
            <a:pPr marL="318960" indent="-31896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CC rules refer to RFPs generically but they may have a variety of na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22:02:20Z</dcterms:created>
  <dc:creator>rreynolds</dc:creator>
  <dc:description/>
  <dc:language>en-US</dc:language>
  <cp:lastModifiedBy>Catriona Ayer</cp:lastModifiedBy>
  <dcterms:modified xsi:type="dcterms:W3CDTF">2009-09-18T16:52:38Z</dcterms:modified>
  <cp:revision>330</cp:revision>
  <dc:subject/>
  <dc:title>Slide 1</dc:title>
</cp:coreProperties>
</file>